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E48-846E-4E4D-A932-265F5EC2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1B7-E299-41B9-BF9B-2D019FA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AAB-D695-49FE-B685-C15E2D83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080-B30C-49E1-9E8A-F4E3DA1B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485-08A6-4148-A487-15E5860B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F8C6-23AB-4B98-858E-8DEADD0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F49-26D3-4804-B542-C19095B9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220-CE2F-40B1-B933-98FFBC1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9D2-0831-4E7F-9E66-6A11441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35E-C370-4DDC-A96B-E1E5345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31AA-659C-4C8E-AC82-58683D6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09E-F08B-4BC4-AB8D-701F14E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715-B54A-44F0-9557-E47A7A9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5580-A3A7-4A57-87AB-1A76AE70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29F-5062-4DD7-BB3A-5E2B88BC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31C0-F423-4C17-87D0-F28F26AC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573A-E0C1-497E-A551-BF1F38E7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C51-E0B6-4FF4-859F-8ACA546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A9F-AB60-484C-86BB-8D0819E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E27-50C9-43A4-9018-2FD1163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E82-F096-4F05-BF24-74FA284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EDF-B07C-47D5-96AD-ABBCB2A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DA6-34BF-47D4-B931-0431026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2CC-687A-4F06-A48D-A54E97C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568-3763-4705-84D9-86AE5C70D4F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824-F5DD-4A18-BE1E-59ECD8EBE4A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: Knowledge Representation for the Inter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ff Hef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ary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Formal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of vocabulary and axioms, O=&lt;V,A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s of V and A depend on tags in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ffs are defined with respect to an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of ground atoms that reference an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perspective” combines an ontology a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es a logical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naming sc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ntradi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ence rule lo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version is a new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mpat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is a language, not a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mplementation must 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design an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gath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ivity vs. performance trade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ry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System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590920"/>
            <a:ext cx="128880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3354480"/>
            <a:ext cx="228600" cy="1293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7440" y="5029200"/>
            <a:ext cx="1141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2040" y="5029200"/>
            <a:ext cx="1217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429000"/>
            <a:ext cx="114300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429000"/>
            <a:ext cx="91440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648320"/>
            <a:ext cx="128880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02360" y="4502160"/>
            <a:ext cx="10540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45720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45720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2360" y="5340240"/>
            <a:ext cx="10540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700520"/>
            <a:ext cx="93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r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31000" y="20415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67680" y="2041560"/>
            <a:ext cx="204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063880"/>
            <a:ext cx="3264120" cy="1587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1280" y="2063880"/>
            <a:ext cx="4635360" cy="1587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240" y="4280040"/>
            <a:ext cx="1719360" cy="1752480"/>
          </a:xfrm>
          <a:custGeom>
            <a:avLst/>
            <a:gdLst/>
            <a:ahLst/>
            <a:rect l="l" t="t" r="r" b="b"/>
            <a:pathLst>
              <a:path w="1083" h="1104">
                <a:moveTo>
                  <a:pt x="75" y="424"/>
                </a:moveTo>
                <a:lnTo>
                  <a:pt x="32" y="374"/>
                </a:lnTo>
                <a:lnTo>
                  <a:pt x="11" y="342"/>
                </a:lnTo>
                <a:lnTo>
                  <a:pt x="22" y="310"/>
                </a:lnTo>
                <a:lnTo>
                  <a:pt x="32" y="278"/>
                </a:lnTo>
                <a:lnTo>
                  <a:pt x="54" y="267"/>
                </a:lnTo>
                <a:lnTo>
                  <a:pt x="86" y="246"/>
                </a:lnTo>
                <a:lnTo>
                  <a:pt x="118" y="246"/>
                </a:lnTo>
                <a:lnTo>
                  <a:pt x="140" y="257"/>
                </a:lnTo>
                <a:lnTo>
                  <a:pt x="172" y="246"/>
                </a:lnTo>
                <a:lnTo>
                  <a:pt x="182" y="224"/>
                </a:lnTo>
                <a:lnTo>
                  <a:pt x="204" y="203"/>
                </a:lnTo>
                <a:lnTo>
                  <a:pt x="225" y="171"/>
                </a:lnTo>
                <a:lnTo>
                  <a:pt x="236" y="149"/>
                </a:lnTo>
                <a:lnTo>
                  <a:pt x="247" y="117"/>
                </a:lnTo>
                <a:lnTo>
                  <a:pt x="279" y="85"/>
                </a:lnTo>
                <a:lnTo>
                  <a:pt x="311" y="64"/>
                </a:lnTo>
                <a:lnTo>
                  <a:pt x="343" y="64"/>
                </a:lnTo>
                <a:lnTo>
                  <a:pt x="365" y="64"/>
                </a:lnTo>
                <a:lnTo>
                  <a:pt x="397" y="64"/>
                </a:lnTo>
                <a:lnTo>
                  <a:pt x="429" y="64"/>
                </a:lnTo>
                <a:lnTo>
                  <a:pt x="461" y="96"/>
                </a:lnTo>
                <a:lnTo>
                  <a:pt x="493" y="107"/>
                </a:lnTo>
                <a:lnTo>
                  <a:pt x="557" y="117"/>
                </a:lnTo>
                <a:lnTo>
                  <a:pt x="590" y="117"/>
                </a:lnTo>
                <a:lnTo>
                  <a:pt x="622" y="107"/>
                </a:lnTo>
                <a:lnTo>
                  <a:pt x="654" y="85"/>
                </a:lnTo>
                <a:lnTo>
                  <a:pt x="686" y="64"/>
                </a:lnTo>
                <a:lnTo>
                  <a:pt x="697" y="42"/>
                </a:lnTo>
                <a:lnTo>
                  <a:pt x="729" y="32"/>
                </a:lnTo>
                <a:lnTo>
                  <a:pt x="750" y="10"/>
                </a:lnTo>
                <a:lnTo>
                  <a:pt x="772" y="10"/>
                </a:lnTo>
                <a:lnTo>
                  <a:pt x="814" y="0"/>
                </a:lnTo>
                <a:lnTo>
                  <a:pt x="836" y="0"/>
                </a:lnTo>
                <a:lnTo>
                  <a:pt x="879" y="21"/>
                </a:lnTo>
                <a:lnTo>
                  <a:pt x="964" y="32"/>
                </a:lnTo>
                <a:lnTo>
                  <a:pt x="986" y="32"/>
                </a:lnTo>
                <a:lnTo>
                  <a:pt x="997" y="64"/>
                </a:lnTo>
                <a:lnTo>
                  <a:pt x="986" y="96"/>
                </a:lnTo>
                <a:lnTo>
                  <a:pt x="975" y="128"/>
                </a:lnTo>
                <a:lnTo>
                  <a:pt x="964" y="160"/>
                </a:lnTo>
                <a:lnTo>
                  <a:pt x="954" y="182"/>
                </a:lnTo>
                <a:lnTo>
                  <a:pt x="932" y="214"/>
                </a:lnTo>
                <a:lnTo>
                  <a:pt x="922" y="246"/>
                </a:lnTo>
                <a:lnTo>
                  <a:pt x="900" y="257"/>
                </a:lnTo>
                <a:lnTo>
                  <a:pt x="922" y="278"/>
                </a:lnTo>
                <a:lnTo>
                  <a:pt x="964" y="289"/>
                </a:lnTo>
                <a:lnTo>
                  <a:pt x="986" y="299"/>
                </a:lnTo>
                <a:lnTo>
                  <a:pt x="1061" y="299"/>
                </a:lnTo>
                <a:lnTo>
                  <a:pt x="1072" y="321"/>
                </a:lnTo>
                <a:lnTo>
                  <a:pt x="1072" y="353"/>
                </a:lnTo>
                <a:lnTo>
                  <a:pt x="1072" y="385"/>
                </a:lnTo>
                <a:lnTo>
                  <a:pt x="1082" y="407"/>
                </a:lnTo>
                <a:lnTo>
                  <a:pt x="1082" y="449"/>
                </a:lnTo>
                <a:lnTo>
                  <a:pt x="1072" y="482"/>
                </a:lnTo>
                <a:lnTo>
                  <a:pt x="1061" y="524"/>
                </a:lnTo>
                <a:lnTo>
                  <a:pt x="1050" y="546"/>
                </a:lnTo>
                <a:lnTo>
                  <a:pt x="1018" y="567"/>
                </a:lnTo>
                <a:lnTo>
                  <a:pt x="954" y="578"/>
                </a:lnTo>
                <a:lnTo>
                  <a:pt x="932" y="589"/>
                </a:lnTo>
                <a:lnTo>
                  <a:pt x="911" y="621"/>
                </a:lnTo>
                <a:lnTo>
                  <a:pt x="922" y="653"/>
                </a:lnTo>
                <a:lnTo>
                  <a:pt x="943" y="696"/>
                </a:lnTo>
                <a:lnTo>
                  <a:pt x="1018" y="728"/>
                </a:lnTo>
                <a:lnTo>
                  <a:pt x="1039" y="760"/>
                </a:lnTo>
                <a:lnTo>
                  <a:pt x="1061" y="771"/>
                </a:lnTo>
                <a:lnTo>
                  <a:pt x="1072" y="803"/>
                </a:lnTo>
                <a:lnTo>
                  <a:pt x="1072" y="835"/>
                </a:lnTo>
                <a:lnTo>
                  <a:pt x="1039" y="867"/>
                </a:lnTo>
                <a:lnTo>
                  <a:pt x="1018" y="889"/>
                </a:lnTo>
                <a:lnTo>
                  <a:pt x="975" y="889"/>
                </a:lnTo>
                <a:lnTo>
                  <a:pt x="943" y="899"/>
                </a:lnTo>
                <a:lnTo>
                  <a:pt x="911" y="889"/>
                </a:lnTo>
                <a:lnTo>
                  <a:pt x="889" y="867"/>
                </a:lnTo>
                <a:lnTo>
                  <a:pt x="857" y="835"/>
                </a:lnTo>
                <a:lnTo>
                  <a:pt x="825" y="814"/>
                </a:lnTo>
                <a:lnTo>
                  <a:pt x="793" y="814"/>
                </a:lnTo>
                <a:lnTo>
                  <a:pt x="761" y="835"/>
                </a:lnTo>
                <a:lnTo>
                  <a:pt x="740" y="878"/>
                </a:lnTo>
                <a:lnTo>
                  <a:pt x="729" y="921"/>
                </a:lnTo>
                <a:lnTo>
                  <a:pt x="718" y="953"/>
                </a:lnTo>
                <a:lnTo>
                  <a:pt x="707" y="996"/>
                </a:lnTo>
                <a:lnTo>
                  <a:pt x="686" y="1028"/>
                </a:lnTo>
                <a:lnTo>
                  <a:pt x="611" y="1071"/>
                </a:lnTo>
                <a:lnTo>
                  <a:pt x="568" y="1092"/>
                </a:lnTo>
                <a:lnTo>
                  <a:pt x="525" y="1103"/>
                </a:lnTo>
                <a:lnTo>
                  <a:pt x="493" y="1103"/>
                </a:lnTo>
                <a:lnTo>
                  <a:pt x="472" y="1081"/>
                </a:lnTo>
                <a:lnTo>
                  <a:pt x="461" y="1049"/>
                </a:lnTo>
                <a:lnTo>
                  <a:pt x="450" y="1017"/>
                </a:lnTo>
                <a:lnTo>
                  <a:pt x="440" y="985"/>
                </a:lnTo>
                <a:lnTo>
                  <a:pt x="440" y="942"/>
                </a:lnTo>
                <a:lnTo>
                  <a:pt x="440" y="910"/>
                </a:lnTo>
                <a:lnTo>
                  <a:pt x="440" y="878"/>
                </a:lnTo>
                <a:lnTo>
                  <a:pt x="440" y="856"/>
                </a:lnTo>
                <a:lnTo>
                  <a:pt x="418" y="835"/>
                </a:lnTo>
                <a:lnTo>
                  <a:pt x="386" y="835"/>
                </a:lnTo>
                <a:lnTo>
                  <a:pt x="354" y="846"/>
                </a:lnTo>
                <a:lnTo>
                  <a:pt x="322" y="878"/>
                </a:lnTo>
                <a:lnTo>
                  <a:pt x="300" y="899"/>
                </a:lnTo>
                <a:lnTo>
                  <a:pt x="268" y="921"/>
                </a:lnTo>
                <a:lnTo>
                  <a:pt x="236" y="942"/>
                </a:lnTo>
                <a:lnTo>
                  <a:pt x="193" y="931"/>
                </a:lnTo>
                <a:lnTo>
                  <a:pt x="97" y="921"/>
                </a:lnTo>
                <a:lnTo>
                  <a:pt x="32" y="910"/>
                </a:lnTo>
                <a:lnTo>
                  <a:pt x="11" y="878"/>
                </a:lnTo>
                <a:lnTo>
                  <a:pt x="11" y="846"/>
                </a:lnTo>
                <a:lnTo>
                  <a:pt x="22" y="814"/>
                </a:lnTo>
                <a:lnTo>
                  <a:pt x="32" y="792"/>
                </a:lnTo>
                <a:lnTo>
                  <a:pt x="54" y="771"/>
                </a:lnTo>
                <a:lnTo>
                  <a:pt x="75" y="749"/>
                </a:lnTo>
                <a:lnTo>
                  <a:pt x="140" y="728"/>
                </a:lnTo>
                <a:lnTo>
                  <a:pt x="182" y="706"/>
                </a:lnTo>
                <a:lnTo>
                  <a:pt x="204" y="696"/>
                </a:lnTo>
                <a:lnTo>
                  <a:pt x="225" y="674"/>
                </a:lnTo>
                <a:lnTo>
                  <a:pt x="193" y="664"/>
                </a:lnTo>
                <a:lnTo>
                  <a:pt x="150" y="653"/>
                </a:lnTo>
                <a:lnTo>
                  <a:pt x="118" y="653"/>
                </a:lnTo>
                <a:lnTo>
                  <a:pt x="86" y="653"/>
                </a:lnTo>
                <a:lnTo>
                  <a:pt x="54" y="664"/>
                </a:lnTo>
                <a:lnTo>
                  <a:pt x="32" y="664"/>
                </a:lnTo>
                <a:lnTo>
                  <a:pt x="0" y="664"/>
                </a:lnTo>
                <a:lnTo>
                  <a:pt x="0" y="642"/>
                </a:lnTo>
                <a:lnTo>
                  <a:pt x="0" y="610"/>
                </a:lnTo>
                <a:lnTo>
                  <a:pt x="0" y="578"/>
                </a:lnTo>
                <a:lnTo>
                  <a:pt x="0" y="556"/>
                </a:lnTo>
                <a:lnTo>
                  <a:pt x="22" y="535"/>
                </a:lnTo>
                <a:lnTo>
                  <a:pt x="54" y="524"/>
                </a:lnTo>
                <a:lnTo>
                  <a:pt x="86" y="514"/>
                </a:lnTo>
                <a:lnTo>
                  <a:pt x="107" y="492"/>
                </a:lnTo>
                <a:lnTo>
                  <a:pt x="129" y="492"/>
                </a:lnTo>
                <a:lnTo>
                  <a:pt x="107" y="471"/>
                </a:lnTo>
                <a:lnTo>
                  <a:pt x="75" y="424"/>
                </a:lnTo>
                <a:lnTo>
                  <a:pt x="75" y="4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726080"/>
            <a:ext cx="83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057400" y="3352680"/>
            <a:ext cx="914400" cy="12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429000"/>
            <a:ext cx="15228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wledge Annot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up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eed to learn the SHOE syn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knowledge to pages by making selections and filling in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error prone than manual mark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444920" y="2284560"/>
            <a:ext cx="4076640" cy="3213000"/>
            <a:chOff x="4444920" y="2284560"/>
            <a:chExt cx="4076640" cy="321300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4444920" y="2741760"/>
              <a:ext cx="40766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16600" y="2284560"/>
              <a:ext cx="27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pos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es for SHOE web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s clustering of SHOE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ally revisits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s information in a K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faster response to user queri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nformation may be s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-based K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O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junctive qu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s features of KBs and D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s to large K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s are ha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relation is a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Q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ka query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representation of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relations from dialog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URLs to open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756320" y="2666880"/>
            <a:ext cx="3625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 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-base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a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an object of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desired values for properties of th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results to view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63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: CS Depart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y incl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ulty, students, publications, research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up for four depar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 pages, 5000 asser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tation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Annotator, text editor, file conversion, pattern ex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s of Web Seman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ation, use of relations, contex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Web 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brit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evaluation of relevan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ized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, domain specific GU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: TSE R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-world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food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IFSAN (FDA/UM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eases, animals, processes,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pages, 500 asser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purpose query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26200" y="2360520"/>
            <a:ext cx="3227400" cy="3219480"/>
            <a:chOff x="5326200" y="2360520"/>
            <a:chExt cx="3227400" cy="3219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5326200" y="2817720"/>
              <a:ext cx="322740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655960" y="2360520"/>
              <a:ext cx="2532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SE Path Analyze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HOE Search Eng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scruffy.cs.umd.edu:8080/shoe/search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ge submission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validatio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s to ontologies, Knowledge Anno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us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abl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commo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 identificat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di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mants and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works in distributed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of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allows rapid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is 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don’t need a Ph.D.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 more information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 the SHOE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umd.edu/projects/plus/SHO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e-mail to: heflin@cs.umd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 for Web K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distrib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sources, varying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dyna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ational needs may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enorm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must scale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Not Use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yntatic rules, does not specify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presentations for sam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DF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equate inferential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 schema versioning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istinction between schemas a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-An Internet KR Langu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t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s HTML, compatible with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vocabulary and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able and ext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laims about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 to one or more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Ont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ONTOLOGY ID="cs-dept-ontology" VERSION="1.1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BACKWARD-COMPATIBLE-WITH="1.0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USE-ONTOLOGY ID="univ-ontology" VERSION="1.0" PREFIX="u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RL="http://ontlib.org/univ_v1.0.html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CATEGORY NAME="ComputerScience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SA="u.ResearchArea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LATION NAME="writtenIn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ARG POS=1 TYPE="Program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ARG POS=2 TYPE="ComputerLanguag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DEF-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NAME FROM="u.Department" TO="Department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NAME FROM="u.DepartmentChair" TO="Chair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CONSTANT NAME="Java" CATEGORY="ComputerLanguag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960" y="2917800"/>
            <a:ext cx="156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Ontology i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4581360"/>
            <a:ext cx="56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l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0" y="328608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lass defini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35320" y="3743280"/>
            <a:ext cx="159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Predicate de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9920" y="3048120"/>
            <a:ext cx="7617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81120" y="4724280"/>
            <a:ext cx="16002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3920" y="3429000"/>
            <a:ext cx="20574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343040" y="3886200"/>
            <a:ext cx="24382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35680" y="5038560"/>
            <a:ext cx="145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nstant in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90960" y="5181480"/>
            <a:ext cx="9903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36760" y="5572080"/>
            <a:ext cx="1652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an also def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xioms  (not show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tology Interoper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50520" y="2414520"/>
            <a:ext cx="7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51040" y="31003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2600" y="43959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4000" y="5614920"/>
            <a:ext cx="11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t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50720" y="43959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03360" y="5614920"/>
            <a:ext cx="5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74040" y="3100320"/>
            <a:ext cx="7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2743200"/>
            <a:ext cx="1143000" cy="3808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52520" y="2743200"/>
            <a:ext cx="1143000" cy="3808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429000"/>
            <a:ext cx="0" cy="9907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48520" y="3429000"/>
            <a:ext cx="0" cy="9907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124080" y="4724280"/>
            <a:ext cx="0" cy="9144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248520" y="4724280"/>
            <a:ext cx="0" cy="9144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44760" y="2368440"/>
            <a:ext cx="4483080" cy="128268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16160" y="4197240"/>
            <a:ext cx="1816200" cy="67320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40240" y="4197240"/>
            <a:ext cx="1816200" cy="67320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5492880"/>
            <a:ext cx="1816200" cy="67284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240" y="5492880"/>
            <a:ext cx="1816200" cy="67284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4320" y="2033640"/>
            <a:ext cx="175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-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16800" y="3862440"/>
            <a:ext cx="9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880" y="5157720"/>
            <a:ext cx="132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-univ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41240" y="38624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rn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2640" y="515772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-furn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59080" y="268920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1040" y="268920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30880" y="375588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6440" y="375588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06080" y="4975200"/>
            <a:ext cx="78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n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06480" y="4975200"/>
            <a:ext cx="78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n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lving Ontology Diverg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892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737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4600" y="3940200"/>
            <a:ext cx="5810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73720" y="3940200"/>
            <a:ext cx="70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432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91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616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455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1840" y="3940200"/>
            <a:ext cx="5810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45520" y="3940200"/>
            <a:ext cx="70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4400" y="3940200"/>
            <a:ext cx="5706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6360" y="3114720"/>
            <a:ext cx="5508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558120" y="3586320"/>
            <a:ext cx="452160" cy="29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7600" y="3586320"/>
            <a:ext cx="452520" cy="29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8440" y="180504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ping 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760" y="180504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ping Rev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0640" y="1805040"/>
            <a:ext cx="23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2900520"/>
            <a:ext cx="37620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3120" y="2900520"/>
            <a:ext cx="37620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0880" y="2900520"/>
            <a:ext cx="68112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9440" y="2898720"/>
            <a:ext cx="758880" cy="9874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2840" y="4548240"/>
            <a:ext cx="25290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map conce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ont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39360" y="4548240"/>
            <a:ext cx="24112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rules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bjects to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ology.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o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8760" y="4548240"/>
            <a:ext cx="260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inter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ncepts.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ame terms 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10400" y="59436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10400" y="61722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3040" y="5789520"/>
            <a:ext cx="1290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7760" y="5843520"/>
            <a:ext cx="67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73760" y="5797440"/>
            <a:ext cx="2654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Inst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TITLE&gt;Jane Smith’s Homepage&lt;/TITL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META HTTP-EQUIV="SHOE" CONTENT="VERSION=1.0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INSTANCE KEY="http://www.cs.umd.edu/users/jsmith/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USE-ONTOLOGY ID="university-ont" VERSION="1.0"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FIX="u" URL="http://www.ontology.org/onts/univ.html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CATEGORY NAME="u.gradStudent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RELATION NAME="u.nam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ARG POS="TO" VALUE="Jane Smith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RELATION NAME="u.advisor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ARG POS="TO" VALUE="http://www.cs.umd.edu/users/jdoe/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INSTANC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06360" y="375588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References an ont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019560" y="3886200"/>
            <a:ext cx="5331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8160" y="4441680"/>
            <a:ext cx="16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Describes a proper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06720" y="4137120"/>
            <a:ext cx="147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Identifies its 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06000" y="5051520"/>
            <a:ext cx="190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Describes a relationsh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14440" y="4572000"/>
            <a:ext cx="24382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560" y="4267080"/>
            <a:ext cx="28191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57240" y="5181480"/>
            <a:ext cx="28954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08880" y="3451320"/>
            <a:ext cx="1422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Has a unique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62360" y="3581280"/>
            <a:ext cx="9903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7T20:07:50Z</dcterms:created>
  <dc:creator>Jeff Heflin</dc:creator>
  <dc:description/>
  <dc:language>en-US</dc:language>
  <cp:lastModifiedBy>stefan</cp:lastModifiedBy>
  <dcterms:modified xsi:type="dcterms:W3CDTF">2000-04-14T21:08:16Z</dcterms:modified>
  <cp:revision>40</cp:revision>
  <dc:subject/>
  <dc:title>Knowledge Representation on the Internet</dc:title>
</cp:coreProperties>
</file>